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3FF-E5DF-4B93-93E9-157B634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4CE-5C80-4C45-8A40-9E180F5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112-6262-4080-B6EE-F6CDD24E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985-1403-4E79-832E-8A9F35F7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7EF-90F6-4D92-842E-2642909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9C7-08C8-47C1-BC1E-430C118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9A4-90EE-4F61-AE8F-A0ECCC5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4E6-F9CF-4B23-98A0-7C4E7AE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40C-7776-41E8-B851-1C91F6F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E3A-E753-4E4F-A7F9-C4052BF3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D1D-8B92-4D37-B811-F1788B2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944-72D0-459D-B3AF-3380F027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5C3-9A3E-4467-A09D-8595DB000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2578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Alan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March 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Computer #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828800"/>
            <a:ext cx="5029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va Lamp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4343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Invented By: Edward Craven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55627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556272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ff"/>
                </a:solidFill>
                <a:latin typeface="Arial"/>
              </a:rPr>
              <a:t>Sound: www.FreePlayMusic.com, Happy Music, March 18</a:t>
            </a:r>
            <a:r>
              <a:rPr b="0" lang="en-US" sz="1000" spc="-1" strike="noStrike" baseline="30000">
                <a:solidFill>
                  <a:srgbClr val="cc00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71800" y="54864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3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alker"/>
          <p:cNvPicPr/>
          <p:nvPr/>
        </p:nvPicPr>
        <p:blipFill>
          <a:blip r:embed="rId1"/>
          <a:stretch/>
        </p:blipFill>
        <p:spPr>
          <a:xfrm>
            <a:off x="609480" y="533520"/>
            <a:ext cx="5334120" cy="1882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Walker"/>
          <p:cNvPicPr/>
          <p:nvPr/>
        </p:nvPicPr>
        <p:blipFill>
          <a:blip r:embed="rId2"/>
          <a:stretch/>
        </p:blipFill>
        <p:spPr>
          <a:xfrm>
            <a:off x="2209680" y="3733920"/>
            <a:ext cx="2210040" cy="154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Lava Lam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9, 2010,     http://web.mit.edu/Invent/iow/ecwalk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254560"/>
            <a:ext cx="3505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Lava Lamp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9, 2010,     http://web.mit.edu/Invent/iow/ecwalk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65760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Edward Craven Walker got the idea of The Lava Lamp, from an egg timer in the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: Edward Craven Wal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ward was born July 4, 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for a British Tobbaco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ward was 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iloted a Mosquito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August 15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1258920" cy="183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65530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cc33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ava 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irst marketed his lamp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colors were red or white with yellow or blue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 entered his Lava Lamp in a tra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ime, Lava Lamp sales increased. For example:  In the 1960’s he sold about 2,500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me the 1980’s where he sold more than 800,000 in just 1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1216080" cy="1235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2280" y="380880"/>
            <a:ext cx="1268640" cy="127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52680" y="6324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c2c2"/>
                </a:solidFill>
                <a:latin typeface="Arial"/>
              </a:rPr>
              <a:t>All Pictures Clip Art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0:35Z</dcterms:created>
  <dc:creator>install</dc:creator>
  <dc:description/>
  <dc:language>en-US</dc:language>
  <cp:lastModifiedBy>install</cp:lastModifiedBy>
  <dcterms:modified xsi:type="dcterms:W3CDTF">2010-03-22T16:04:33Z</dcterms:modified>
  <cp:revision>10</cp:revision>
  <dc:subject/>
  <dc:title>Slide 1</dc:title>
</cp:coreProperties>
</file>